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819EA-C041-4EB1-A0C2-8BEC604BF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408B-2FC1-46BE-AE69-F9A685E8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A8E0F-227C-47C8-84F4-1D10CA274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136C9-0C26-47F6-BEE7-C33616850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566B-5BEB-4E67-BC31-46004581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C1B73-4471-4F55-BAD0-6236D14A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72A4C-CB8B-42B6-8B08-3FB604F84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A772-1FBC-419A-ADC7-DBBA9871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3E6F0-03DF-48B5-9583-A518F2E7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A276-5DFA-4C78-B235-A855841C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6A1FF-BC10-4A02-A1D8-1F9981D7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D63E-08E3-4AE6-BD4C-FCC34CD31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D179-4523-4E1D-9ADB-A13EF3231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867280" y="1676520"/>
            <a:ext cx="1752840" cy="1566720"/>
          </a:xfrm>
          <a:prstGeom prst="rect">
            <a:avLst/>
          </a:prstGeom>
          <a:ln w="0">
            <a:noFill/>
          </a:ln>
        </p:spPr>
      </p:pic>
      <p:pic>
        <p:nvPicPr>
          <p:cNvPr id="50" name="" descr=""/>
          <p:cNvPicPr/>
          <p:nvPr/>
        </p:nvPicPr>
        <p:blipFill>
          <a:blip r:embed="rId2"/>
          <a:stretch/>
        </p:blipFill>
        <p:spPr>
          <a:xfrm>
            <a:off x="5867280" y="3200400"/>
            <a:ext cx="1752840" cy="1676520"/>
          </a:xfrm>
          <a:prstGeom prst="rect">
            <a:avLst/>
          </a:prstGeom>
          <a:ln w="0">
            <a:noFill/>
          </a:ln>
        </p:spPr>
      </p:pic>
      <p:pic>
        <p:nvPicPr>
          <p:cNvPr id="51" name=""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81480" y="4044960"/>
            <a:ext cx="2667240" cy="2432160"/>
          </a:xfrm>
          <a:prstGeom prst="rect">
            <a:avLst/>
          </a:prstGeom>
          <a:ln w="0">
            <a:noFill/>
          </a:ln>
        </p:spPr>
      </p:pic>
      <p:pic>
        <p:nvPicPr>
          <p:cNvPr id="66"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7T22:59:49Z</dcterms:modified>
  <cp:revision>19</cp:revision>
  <dc:subject/>
  <dc:title>Great Expectations Chapters 53-54</dc:title>
</cp:coreProperties>
</file>